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A23-4447-444E-8013-60D2AFA7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A48-76F3-4E49-8452-2AEDD14A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5FD-5145-472F-860E-FDD08D6D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958-736A-4D8F-89D7-E1667B6B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C248-F0A5-4F59-AC61-135425B7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9D58-83C0-4CB2-B2D8-CA92B08E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B3AD-5C9E-4E8F-898D-AE425FE3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BC52-F16D-4364-AC16-9A16984E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0A96-EB43-471E-B4D3-36E3B1DC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801B-3BEC-4192-B3BC-F441309F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D0D4-F9B7-4FD5-A74E-59389ACC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B22-77A7-4438-8349-0C437E8A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C99B-0AF9-4BEC-AA87-32B577E9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1569-3603-4E9B-8E1E-1DCE0E71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D4B9-EEF1-4BC2-B706-EF293185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C40B-BD78-47C6-97CE-B7721567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1A0C-2ABE-4022-8BB7-38E3F6D9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725-235D-4937-9BCB-B8A4217F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873-2F20-4F77-8792-A54CF81B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E35-715D-4238-8B11-D83DFFBC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2A6-4A8F-4DA6-A52C-C4AE526F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ED1-7B7B-4F9B-A083-19760015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D65-06E3-451E-BBD7-F2C679C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095-E99B-44AB-8B12-4B4374D8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2136-6AF6-4784-9757-E6DEB43DEFE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EB10-B3D7-450C-A92E-97869165D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BDA5-B80A-4148-9872-7096063124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299A-BECB-4E7C-9423-9B9488CF7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83" name="Rectangle 7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12"/>
          <p:cNvSpPr/>
          <p:nvPr/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300" spc="-1" strike="noStrike">
                <a:solidFill>
                  <a:srgbClr val="333399"/>
                </a:solidFill>
                <a:latin typeface="Garamond"/>
              </a:rPr>
              <a:t>Напредък в изпълнението на ОП РЧР за 2012 г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Заседание на Съвета за координация при управление на средствата от 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(СКУСЕ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Garamond"/>
              </a:rPr>
              <a:t>София, 16 май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11"/>
          <p:cNvGraphicFramePr/>
          <p:nvPr/>
        </p:nvGraphicFramePr>
        <p:xfrm>
          <a:off x="304920" y="1600200"/>
          <a:ext cx="8305560" cy="48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00200"/>
                    <a:ext cx="83055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F52D-B1DE-46A3-93CD-E0F2C0BCABC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7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11"/>
          <p:cNvGraphicFramePr/>
          <p:nvPr/>
        </p:nvGraphicFramePr>
        <p:xfrm>
          <a:off x="380880" y="1371600"/>
          <a:ext cx="800100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371600"/>
                    <a:ext cx="80010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929C-2AB6-48A3-9E51-58AB6DD25CF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8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13"/>
          <p:cNvGraphicFramePr/>
          <p:nvPr/>
        </p:nvGraphicFramePr>
        <p:xfrm>
          <a:off x="0" y="1676520"/>
          <a:ext cx="8881920" cy="492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888192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2A0B-0393-415F-A2B0-DF93A0D843A4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9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13"/>
          <p:cNvGraphicFramePr/>
          <p:nvPr/>
        </p:nvGraphicFramePr>
        <p:xfrm>
          <a:off x="304920" y="1143000"/>
          <a:ext cx="8515080" cy="524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51508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4605-9602-42F4-8ADF-27CB9BCBE83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0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11"/>
          <p:cNvGraphicFramePr/>
          <p:nvPr/>
        </p:nvGraphicFramePr>
        <p:xfrm>
          <a:off x="152280" y="1523880"/>
          <a:ext cx="8610840" cy="5035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084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E4F0-9AF0-4370-B68D-8D2D2E77233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11"/>
          <p:cNvGraphicFramePr/>
          <p:nvPr/>
        </p:nvGraphicFramePr>
        <p:xfrm>
          <a:off x="228600" y="1828800"/>
          <a:ext cx="853452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28800"/>
                    <a:ext cx="8534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5108-35E2-49F2-81BC-4F30DE7E1E8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11"/>
          <p:cNvGraphicFramePr/>
          <p:nvPr/>
        </p:nvGraphicFramePr>
        <p:xfrm>
          <a:off x="152280" y="1523880"/>
          <a:ext cx="8460000" cy="491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46000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0CC9-7F93-4EAF-827A-8B286BF7482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6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11"/>
          <p:cNvGraphicFramePr/>
          <p:nvPr/>
        </p:nvGraphicFramePr>
        <p:xfrm>
          <a:off x="0" y="1447920"/>
          <a:ext cx="8686800" cy="519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868680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6447-4606-48D5-B66D-894AC9C8B45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7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11"/>
          <p:cNvGraphicFramePr/>
          <p:nvPr/>
        </p:nvGraphicFramePr>
        <p:xfrm>
          <a:off x="0" y="1581120"/>
          <a:ext cx="8991720" cy="497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81120"/>
                    <a:ext cx="899172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5386-7F9B-4A83-A6BD-5759724AA72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РИОРИТЕТНА ОС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7</a:t>
            </a:r>
            <a:br>
              <a:rPr sz="2800"/>
            </a:b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11"/>
          <p:cNvGraphicFramePr/>
          <p:nvPr/>
        </p:nvGraphicFramePr>
        <p:xfrm>
          <a:off x="0" y="1789200"/>
          <a:ext cx="8686800" cy="506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89200"/>
                    <a:ext cx="868680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5A74-392D-46A7-8ED8-C5DC66269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8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3733-039E-4030-8D0C-A23614724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ПРОГРАМИРАНЕ НА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92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6" name=""/>
          <p:cNvGraphicFramePr/>
          <p:nvPr/>
        </p:nvGraphicFramePr>
        <p:xfrm>
          <a:off x="457200" y="1951200"/>
          <a:ext cx="8229600" cy="4144320"/>
        </p:xfrm>
        <a:graphic>
          <a:graphicData uri="http://schemas.openxmlformats.org/drawingml/2006/table">
            <a:tbl>
              <a:tblPr/>
              <a:tblGrid>
                <a:gridCol w="5943600"/>
                <a:gridCol w="22860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юджет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74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5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грамира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раз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цент от бюджета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4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тартирали процедури за предоставяне на безвъзмездна финансова помощ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р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юдж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923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69A-3D4A-4829-87DD-C217C8458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ДЕЙНОСТИ ПО КОМУНИКАЦИЯ И ПУБЛИЧНОСТ ПРЕЗ 201</a:t>
            </a: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2</a:t>
            </a: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 г.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19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екламни радио и телевизионни клип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убрики и репортаж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документални филм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Близо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60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0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публикации в интернет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4 мащабни информационни събития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Информационни дни по 21 схеми и обучения по още 5 схем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Годишно информационно събитие за популяризиране на ОП РЧР – май 2012 г., проведено във всички областни градове. Обща продължителност два месец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71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F21F-DF7F-4230-9CCF-7DDAD3A80BE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01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5" name=""/>
          <p:cNvGraphicFramePr/>
          <p:nvPr/>
        </p:nvGraphicFramePr>
        <p:xfrm>
          <a:off x="457200" y="1951200"/>
          <a:ext cx="8001000" cy="3701880"/>
        </p:xfrm>
        <a:graphic>
          <a:graphicData uri="http://schemas.openxmlformats.org/drawingml/2006/table">
            <a:tbl>
              <a:tblPr/>
              <a:tblGrid>
                <a:gridCol w="4013280"/>
                <a:gridCol w="2373120"/>
                <a:gridCol w="16146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оговор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027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азплат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52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ер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5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ерт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11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31"/>
          <p:cNvGraphicFramePr/>
          <p:nvPr/>
        </p:nvGraphicFramePr>
        <p:xfrm>
          <a:off x="228600" y="1981080"/>
          <a:ext cx="868680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8686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1051-38F7-4A75-92E2-C6C362179CF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4"/>
          <p:cNvGraphicFramePr/>
          <p:nvPr/>
        </p:nvGraphicFramePr>
        <p:xfrm>
          <a:off x="228600" y="1600200"/>
          <a:ext cx="8763120" cy="510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00200"/>
                    <a:ext cx="8763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CDAA-C1DA-42F5-8787-8DB3F7B9C5D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15"/>
          <p:cNvGraphicFramePr/>
          <p:nvPr/>
        </p:nvGraphicFramePr>
        <p:xfrm>
          <a:off x="152280" y="1523880"/>
          <a:ext cx="8612280" cy="514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228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60BB-AC8D-4C66-BD57-7F3D7776130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16"/>
          <p:cNvGraphicFramePr/>
          <p:nvPr/>
        </p:nvGraphicFramePr>
        <p:xfrm>
          <a:off x="41400" y="1214280"/>
          <a:ext cx="9024840" cy="450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14280"/>
                    <a:ext cx="902484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E122-C306-4080-8648-2DFBD17F664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11"/>
          <p:cNvGraphicFramePr/>
          <p:nvPr/>
        </p:nvGraphicFramePr>
        <p:xfrm>
          <a:off x="228600" y="1523880"/>
          <a:ext cx="868680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86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2E3B-ACF9-431C-A60F-251BF1CF467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11"/>
          <p:cNvGraphicFramePr/>
          <p:nvPr/>
        </p:nvGraphicFramePr>
        <p:xfrm>
          <a:off x="0" y="1371600"/>
          <a:ext cx="8915400" cy="491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89154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039B-E180-4F16-A967-4174FB1EE35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anaki Yanakiev</dc:creator>
  <dc:description/>
  <dc:language>en-US</dc:language>
  <cp:lastModifiedBy>v.olshevski</cp:lastModifiedBy>
  <dcterms:modified xsi:type="dcterms:W3CDTF">2013-05-10T14:33:04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